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B96-1D4D-4E3D-8A2A-DA8341F9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271-85B4-4744-90F2-1566DEDD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0DB-871B-487A-88A0-6AE2516A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955-91B9-4619-AF47-6300834F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14B-20A3-4E8B-926E-D1E7E809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244-9DE4-4CFA-ABE0-3A793E00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D93-505F-4989-B1A5-35540551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3F0-C972-4425-8771-1A39CEDC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F38-C91F-4637-B2C7-F2681DB5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8C2-B61B-4AC0-8415-57A60CA1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5BE-C853-45A5-A374-341F92AF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D2F-A1A9-4164-AC75-802D4D07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2F02-7026-4497-A146-87A30DB226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75640" y="491508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4"/>
          <p:cNvSpPr/>
          <p:nvPr/>
        </p:nvSpPr>
        <p:spPr>
          <a:xfrm>
            <a:off x="762120" y="380880"/>
            <a:ext cx="670536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7 : Optical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5"/>
          <p:cNvSpPr/>
          <p:nvPr/>
        </p:nvSpPr>
        <p:spPr>
          <a:xfrm>
            <a:off x="762120" y="1676520"/>
            <a:ext cx="77724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asic controls of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mer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their effects, and how an image is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ucture of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y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how an image is formed, how the brain can be foo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correct eye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 projector forms an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24T19:00:33Z</dcterms:modified>
  <cp:revision>17</cp:revision>
  <dc:subject>Physics for You Support File</dc:subject>
  <dc:title>Physics for You</dc:title>
</cp:coreProperties>
</file>