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F28-6C0F-4AA7-9412-C7D621DF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238-0317-480A-8E1D-B0A09CF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FC5-671D-40E0-9B2C-589F8101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251-A41F-469A-AAA1-578918DB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FC7-7557-4A19-BDBF-53DEA37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600-DA0A-434B-84D5-FDFBB03C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267-5CE8-48C7-8D52-4EF32C4E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151-82EC-48E5-9C1E-22D7A0C1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990-8FBF-4C96-AD35-48835777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E68-1A60-4638-AA0A-D316AAA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AA7-912A-463F-B902-B3532AA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FD0-2F5E-48F3-87CD-1F2A81F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603-90BD-440E-BFA4-3D1C49C6C4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717040" y="486900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26 –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6 : L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00000" y="1268280"/>
            <a:ext cx="7632720" cy="40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onvex lens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rges / diverg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ays of light, whereas a concave lens</a:t>
            </a:r>
            <a:br>
              <a:rPr sz="2400"/>
            </a:b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rges / diverg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ays of ligh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‘fat’ lens is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trong / wea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becaus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refracts light by a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large / sma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mount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means it has a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long / sh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c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900000" y="1268280"/>
            <a:ext cx="7632720" cy="40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onvex lens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rges / diverg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ays of light, whereas a concave lens</a:t>
            </a:r>
            <a:br>
              <a:rPr sz="2400"/>
            </a:b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onverges / diverg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ays of ligh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‘fat’ lens is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trong / wea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becaus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refracts light by a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large / sma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mount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means it has a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long / sh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c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6 : L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48360" y="1359000"/>
            <a:ext cx="1511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403280" y="2251080"/>
            <a:ext cx="1800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343400" y="3527280"/>
            <a:ext cx="11509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105520" y="3962520"/>
            <a:ext cx="10062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72000" y="4422600"/>
            <a:ext cx="8618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4T19:10:39Z</dcterms:modified>
  <cp:revision>44</cp:revision>
  <dc:subject>Physics for You Support File</dc:subject>
  <dc:title>Physics for You</dc:title>
</cp:coreProperties>
</file>