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9658-2A17-4BD5-81AE-06034BF24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E97C-E861-4DAA-88EC-3088F179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0777-9B3E-4DA1-B0E4-F37434F85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DFDA-13F6-44AA-A49A-648DAF199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B91B-E16A-4698-8556-A5CB9E9E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06DC-DA20-4506-90A2-A10850E1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EDA3-2975-4B8E-9C8F-5717B5A5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EA9C-A1B7-4FE5-B45C-E91CB448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57B3-77AD-46D4-BC1F-BE3EBDDA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6755-48F8-4981-9D2B-668D4871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7436-C151-423C-8A57-542C8419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0067-EAD2-480A-8899-0B648CED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B370-3F00-4539-BDB6-F2391F3904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" descr=""/>
          <p:cNvPicPr/>
          <p:nvPr/>
        </p:nvPicPr>
        <p:blipFill>
          <a:blip r:embed="rId2"/>
          <a:stretch/>
        </p:blipFill>
        <p:spPr>
          <a:xfrm>
            <a:off x="8675640" y="4915080"/>
            <a:ext cx="247680" cy="11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762120" y="53352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762120" y="1371600"/>
            <a:ext cx="7924680" cy="35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file contains the Plenary for this chapter in </a:t>
            </a:r>
            <a:br>
              <a:rPr sz="2000"/>
            </a:b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Physics For Yo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of these slides are paired with a corresponding slide in the PowerPoint of th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Learning Objectiv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this chap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a limited amount of colour has been used on these slides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of course you can customise them in any way you wis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well as using the relevant slide to test your students and to evaluate how well they have understood each section of work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may also find the slides useful for a quick revision cour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62120" y="5715000"/>
            <a:ext cx="62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pter 27 – Optical Instr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762120" y="38088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27 : Optical Instr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762120" y="1268280"/>
            <a:ext cx="727236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n a camera, the iris control (the ‘aperture’) changes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______________________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you are long sighted, you need glasses with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onvex / concav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lenses in order to see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near / far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bjects.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you are short sighted, you need glasses with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onvex / concav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lenses in order to see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near / far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bjects.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762120" y="38088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27 : Optical Instr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762120" y="1268280"/>
            <a:ext cx="727236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n a camera, the iris control (the ‘aperture’) changes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______________________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you are long sighted, you need glasses with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onvex / concav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lenses in order to see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near / far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bjects.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you are short sighted, you need glasses with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onvex / concav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lenses in order to see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near / far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bjects.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059280" y="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610000" y="1647720"/>
            <a:ext cx="5975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 amount of light entering via the l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905120" y="4983120"/>
            <a:ext cx="13716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219320" y="5334120"/>
            <a:ext cx="990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3124080" y="3179880"/>
            <a:ext cx="15130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1981080" y="3538440"/>
            <a:ext cx="648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8532720" y="3357720"/>
            <a:ext cx="611280" cy="3166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Keith</cp:lastModifiedBy>
  <dcterms:modified xsi:type="dcterms:W3CDTF">2017-04-24T19:11:55Z</dcterms:modified>
  <cp:revision>46</cp:revision>
  <dc:subject>Physics for You Support File</dc:subject>
  <dc:title>Physics for You</dc:title>
</cp:coreProperties>
</file>