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70DD-C358-42A1-AD04-842CE0DE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0028-30A5-470E-9243-14FBD401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53F-46F9-4452-840C-604C054E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196-1802-4FA3-BD0A-9593582D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30F-7366-4F1F-BA8A-6ECA256E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4BB-939C-418D-919D-AA5BB33C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A93-A284-454F-841C-16F4E2EF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742-F993-47C0-8DD8-37635D69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D43-BF63-4514-AEEB-5BF9CDD7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DFB-2C2C-4A39-B9C1-A806C6F4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BB7-36D9-4A4F-BB80-A3EC6D8D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276E-B8A6-4638-82F5-D8BAF032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25F7-7881-4EB9-8F83-7000FD0DAB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8675640" y="4915080"/>
            <a:ext cx="247680" cy="11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1341360"/>
            <a:ext cx="792468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owerPoint file contains some Learning Objectives for this chapter in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hysics For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introducing each lesson with the relevant slide,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slide to summarise at the end of the lesson, you ma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you can tell when to stop clicking, the last line (only)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lide has a full sto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2"/>
          <p:cNvSpPr/>
          <p:nvPr/>
        </p:nvSpPr>
        <p:spPr>
          <a:xfrm>
            <a:off x="762120" y="380880"/>
            <a:ext cx="670536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6 :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3"/>
          <p:cNvSpPr/>
          <p:nvPr/>
        </p:nvSpPr>
        <p:spPr>
          <a:xfrm>
            <a:off x="762120" y="1676520"/>
            <a:ext cx="777240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’ lenses refract light rays strongly, they have a short focal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599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ve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en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4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light ray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ve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4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y form real, inverted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599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ca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en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400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light ray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ve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400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 virtual im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8388360" y="2781360"/>
            <a:ext cx="576360" cy="381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29:50Z</dcterms:created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</cp:lastModifiedBy>
  <dcterms:modified xsi:type="dcterms:W3CDTF">2017-04-24T18:59:55Z</dcterms:modified>
  <cp:revision>16</cp:revision>
  <dc:subject>Physics for You Support File</dc:subject>
  <dc:title>Physics for You</dc:title>
</cp:coreProperties>
</file>